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A2E8-79BA-48FD-BF68-FE5233AA9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C3A9-34D7-4FCD-B3CF-BE28EC9F6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0E4C-9051-476C-A8D0-76C7BBBF3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5FE8-7022-4CA5-9B98-7F73A0289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F36F-6E9C-4761-893E-3472F5859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A3A6-7C58-41F9-B14E-C8AEC8D6E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F344-89EF-4B3F-A36F-8DB5FB2425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06FD-074A-4AAE-A051-C7B205890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3FD1-99FE-47CE-B731-0335BF939A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C8C2-0A60-4F9F-9795-A72A368DEE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F185-A588-42DC-8DFB-C0C9F25E5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25C7-9762-40CA-A2B0-8CCD1C8EF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2ED8-884F-452F-9DBD-FB6E3D05CA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A790-8EE3-4C14-AD78-A6D54BC91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30E8-D45D-4AA5-A5E9-9537E88E7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688C-429B-4D48-B09E-7AD65F068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6EC8-BC43-4673-929F-9582FBF1EB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DF8-366F-41E6-ACEE-5921B9993F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2CD-4BD5-474E-B48D-73371C9D21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D59-5A0F-4E42-A929-0AA87BF0DD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180-8EB3-4660-B4D5-628EF3F01D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671-582C-4C6C-84D6-9DC3F5847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8ED9-B9F8-4360-886D-0C644CA496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6C3-737F-4E22-9172-4F329E439B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F8E-4066-4C62-A87E-E2DCAB3E16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8E1-581C-4875-BEB6-CDA35E6E1F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466-5D4E-44DD-B0F8-F67952267A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BCE-AB3E-46BA-8BA3-90153FFB29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7C6-2EB3-4C15-8164-5561879EA4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411-BFDA-4F53-93E2-280E31B60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BF14-E528-4A29-9033-01ACB6A09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8B35-9F71-4DA6-B2E5-3AB685FC0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3E42-99D8-4B4B-B03D-4AE640476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4275-314B-4FAB-845A-64A21D9F5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B87B-18B1-469A-9E20-B6183B009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86AA-0DD0-4953-9DEC-52A38687B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75F-75A7-4B21-A06D-7F35C2AEB45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BA4-AEF5-472A-8B72-37CC5B9E5514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8F96-E8B5-4BF3-BE78-CA28C926A1C1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59A4-7CF2-4347-AEE7-9342237968F8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9D01-1E9D-468E-A2DB-A67C5D8F43C4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1CD2-6EC8-40FF-A1C3-8FEC35019D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8548-AFA5-407A-B2F2-B3F867B9B3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3105-C967-4AE8-BCF3-DADE6CEDA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ED55-52C1-4116-838C-08E38A996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CD1-7432-4088-A871-90AE7BC72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42F4-7AE5-49A8-80BE-81AB000ED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98440" y="40464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  <a:ea typeface="文鼎中黑"/>
              </a:rPr>
              <a:t>RDQ VA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55736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for loc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Support for Headquart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Electrical Engineering, HW/S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 Engine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nagement Support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ompati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67BC-E6C5-4FB3-BEA2-DD48E40BD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22T16:48:38Z</dcterms:modified>
  <cp:revision>332</cp:revision>
  <dc:subject/>
  <dc:title>PHE R&amp;D Organization Charts</dc:title>
</cp:coreProperties>
</file>